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4CFF2-1933-49B9-951E-02B76BACD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D82C2-D073-4C8E-B4D9-CED6DE705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0A6FF-20F7-4849-B35F-149FF8812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C8A82-B281-4680-9996-84DECBC6A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8F600-357A-4DDB-9F8B-5EF777833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57765-CEBB-47B7-8F17-0A4C3AED0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4A8F9-7A17-497A-B45D-270EC3099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25A5B-D71D-4631-BB46-170E2FE7D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07041-9162-48C3-BF33-A4E302111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94D71-D342-4B3E-A5E8-9EC405E33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5BD90-F19C-4CA7-ACBD-0194225EA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79E2C-C76F-4C4F-8335-5EDFE9B48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6AE74-BD39-4121-97AF-5A8CE84315E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5240" y="2595240"/>
            <a:ext cx="6446880" cy="1366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Light"/>
              </a:rPr>
              <a:t>Подготовила: педагог-психолог МБОУ «СОШ №68 г. Челябинска» (филиал 2) </a:t>
            </a:r>
            <a:br>
              <a:rPr sz="3200"/>
            </a:br>
            <a:r>
              <a:rPr b="1" lang="ru-RU" sz="3200" spc="-1" strike="noStrike">
                <a:solidFill>
                  <a:srgbClr val="000000"/>
                </a:solidFill>
                <a:latin typeface="Calibri Light"/>
              </a:rPr>
              <a:t>Зямилева К.П.</a:t>
            </a:r>
            <a:endParaRPr b="0" lang="en-US" sz="3200" spc="-1" strike="noStrike">
              <a:solidFill>
                <a:srgbClr val="000000"/>
              </a:solidFill>
              <a:latin typeface="Calibri Light"/>
            </a:endParaRPr>
          </a:p>
        </p:txBody>
      </p:sp>
      <p:sp>
        <p:nvSpPr>
          <p:cNvPr id="42" name="PlaceHolder 2"/>
          <p:cNvSpPr>
            <a:spLocks noGrp="1"/>
          </p:cNvSpPr>
          <p:nvPr>
            <p:ph type="subTitle"/>
          </p:nvPr>
        </p:nvSpPr>
        <p:spPr>
          <a:xfrm>
            <a:off x="1131840" y="-98640"/>
            <a:ext cx="6858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0000"/>
                </a:solidFill>
                <a:uFillTx/>
                <a:latin typeface="Calibri"/>
              </a:rPr>
              <a:t>Мульттерапия в профилактической работе педагога-психолога в период подготовки к ГИА.</a:t>
            </a:r>
            <a:endParaRPr b="0" lang="en-US" sz="3600" spc="-1" strike="noStrike">
              <a:solidFill>
                <a:srgbClr val="000000"/>
              </a:solidFill>
              <a:latin typeface="Calibri"/>
            </a:endParaRPr>
          </a:p>
        </p:txBody>
      </p:sp>
    </p:spTree>
  </p:cSld>
  <p:transition spd="med" advTm="15000">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797120" y="582120"/>
            <a:ext cx="687528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Родительское собрание.</a:t>
            </a:r>
            <a:endParaRPr b="0" lang="en-US" sz="3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1. Просмотр мультфильма</a:t>
            </a:r>
            <a:endParaRPr b="0" lang="en-US" sz="3600" spc="-1" strike="noStrike">
              <a:solidFill>
                <a:srgbClr val="000000"/>
              </a:solidFill>
              <a:latin typeface="Calibri"/>
            </a:endParaRPr>
          </a:p>
        </p:txBody>
      </p:sp>
      <p:pic>
        <p:nvPicPr>
          <p:cNvPr id="55" name="Picture 6" descr="https://sun9-1.userapi.com/rWuUPP_OSAHCOHNZJAKv29Sx1oBjlzDuAigwcQ/p0cc3dyD1MY.jpg"/>
          <p:cNvPicPr/>
          <p:nvPr/>
        </p:nvPicPr>
        <p:blipFill>
          <a:blip r:embed="rId1"/>
          <a:stretch/>
        </p:blipFill>
        <p:spPr>
          <a:xfrm>
            <a:off x="1797120" y="2008080"/>
            <a:ext cx="2984400" cy="1922400"/>
          </a:xfrm>
          <a:prstGeom prst="rect">
            <a:avLst/>
          </a:prstGeom>
          <a:ln w="0">
            <a:noFill/>
          </a:ln>
        </p:spPr>
      </p:pic>
      <p:pic>
        <p:nvPicPr>
          <p:cNvPr id="56" name="Picture 8" descr="https://i.sunhome.ru/journal/91/neitrino-inoplanetyan-v2.orig.png"/>
          <p:cNvPicPr/>
          <p:nvPr/>
        </p:nvPicPr>
        <p:blipFill>
          <a:blip r:embed="rId2"/>
          <a:stretch/>
        </p:blipFill>
        <p:spPr>
          <a:xfrm>
            <a:off x="4781520" y="3930480"/>
            <a:ext cx="4191120" cy="2357640"/>
          </a:xfrm>
          <a:prstGeom prst="rect">
            <a:avLst/>
          </a:prstGeom>
          <a:ln w="0">
            <a:noFill/>
          </a:ln>
        </p:spPr>
      </p:pic>
    </p:spTree>
  </p:cSld>
  <p:transition spd="med" advTm="1500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733040" y="178920"/>
            <a:ext cx="677556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подготовке выпускников к экзаменам огромную роль играют родители. Именно родители во многом внушают уверенность детям в своих силах или, наоборот, повышают тревогу, помогают, волнуются и переживают из-за недостаточно высоких оценок. Экзамены представляет трудность не только для обучающихся, но и для их пап и мам.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advTm="15000">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1976400" y="286920"/>
            <a:ext cx="6539040" cy="64436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оветы психолога</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тревожьтесь о количестве баллов, которые, ребенок получит на экзамене, и не критикуйте ребенка после экзамена.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нушайте ребенку мысль, что количество баллов не является совершенным измерением его возможностей.</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повышайте тревожность ребенка накануне экзаменов – это может отрицательно сказаться на результате тестирования.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ебенку всегда передается волнение родителей, и если взрослые в ответственный момент могут справиться со своими эмоциями, то ребенок в силу возрастных особенностей может эмоционально "сорваться".</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дбадривайте детей, хвалите их за то, что они делают хорошо.</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Calibri"/>
              </a:rPr>
              <a:t>И  помните: самое главное - это снизить напряжение и тревожность ребенка и обеспечить подходящие условия для занятий.</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advTm="15000">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2020680" y="815760"/>
            <a:ext cx="6694200" cy="4670280"/>
          </a:xfrm>
          <a:prstGeom prst="rect">
            <a:avLst/>
          </a:prstGeom>
          <a:noFill/>
          <a:ln w="0">
            <a:noFill/>
          </a:ln>
        </p:spPr>
        <p:txBody>
          <a:bodyPr anchor="t">
            <a:normAutofit fontScale="99000"/>
          </a:bodyPr>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мультфильмах заложен огромный потенциал, который можно использовать для обучения, воспитания, коррекции поведения и отношений и даже для терапии. Причем, что очень важно, не только детей, но и взрослых. </a:t>
            </a:r>
            <a:br>
              <a:rPr sz="2800"/>
            </a:br>
            <a:r>
              <a:rPr b="0" lang="ru-RU" sz="2800" spc="-1" strike="noStrike">
                <a:solidFill>
                  <a:srgbClr val="000000"/>
                </a:solidFill>
                <a:latin typeface="Calibri"/>
              </a:rPr>
              <a:t>Любой мультфильм может быть полезен в процессе воспитания ребенка. </a:t>
            </a:r>
            <a:br>
              <a:rPr sz="2800"/>
            </a:br>
            <a:r>
              <a:rPr b="0" lang="ru-RU" sz="2800" spc="-1" strike="noStrike">
                <a:solidFill>
                  <a:srgbClr val="000000"/>
                </a:solidFill>
                <a:latin typeface="Calibri"/>
              </a:rPr>
              <a:t>Как это ни удивительно, но в мультфильмах заложен огромный ресурс для работы не только с детьми, но и со взрослыми. </a:t>
            </a:r>
            <a:endParaRPr b="0" lang="en-US" sz="2800" spc="-1" strike="noStrike">
              <a:solidFill>
                <a:srgbClr val="000000"/>
              </a:solidFill>
              <a:latin typeface="Calibri"/>
            </a:endParaRPr>
          </a:p>
        </p:txBody>
      </p:sp>
    </p:spTree>
  </p:cSld>
  <p:transition spd="med" advTm="15000">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836720" y="234720"/>
            <a:ext cx="6678720" cy="5941800"/>
          </a:xfrm>
          <a:prstGeom prst="rect">
            <a:avLst/>
          </a:prstGeom>
          <a:noFill/>
          <a:ln w="0">
            <a:noFill/>
          </a:ln>
        </p:spPr>
        <p:txBody>
          <a:bodyPr anchor="t">
            <a:normAutofit/>
          </a:bodyPr>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ульттерапия обладает не только коррекционно-терапевтическим эффектом, но и развивает творческие способности, накапливает внутренние резервы у детей. В процессе просмотра мультфильма и работы-ребенок  отожествляет себя  с собственными проблемами, перенося их на персонажа фильма. Ребенку легче обсуждать и анализировать  поведение главного героя, чем касаться собственных трудностей. Поведение персонажей может служить примером взаимодействия с миром. В процессе мульттерапии у детей снижается агрессивность, тревожность, улучшается настроение, повышается самооценка, уверенность в себе, развиваются коммуникативные качества.</a:t>
            </a:r>
            <a:endParaRPr b="0" lang="en-US" sz="20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нный арт-терапевтический метод позволяет вести дистанционно коррекционную работу, помогая ребенку справиться с собственными переживаниями, личностными и  поведенческими трудностями.</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advTm="15000">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2386080" y="840960"/>
            <a:ext cx="551160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0" spc="-1" strike="noStrike">
                <a:solidFill>
                  <a:srgbClr val="000000"/>
                </a:solidFill>
                <a:latin typeface="Times New Roman"/>
                <a:ea typeface="Times New Roman"/>
              </a:rPr>
              <a:t>Благодарю за внимание!</a:t>
            </a:r>
            <a:endParaRPr b="0" lang="en-US" sz="6000" spc="-1" strike="noStrike">
              <a:solidFill>
                <a:srgbClr val="000000"/>
              </a:solidFill>
              <a:latin typeface="Calibri"/>
            </a:endParaRPr>
          </a:p>
        </p:txBody>
      </p:sp>
      <p:pic>
        <p:nvPicPr>
          <p:cNvPr id="62" name="Picture 2" descr="Мнение психолога "/>
          <p:cNvPicPr/>
          <p:nvPr/>
        </p:nvPicPr>
        <p:blipFill>
          <a:blip r:embed="rId1"/>
          <a:stretch/>
        </p:blipFill>
        <p:spPr>
          <a:xfrm>
            <a:off x="2924280" y="3141720"/>
            <a:ext cx="4572000" cy="2400120"/>
          </a:xfrm>
          <a:prstGeom prst="rect">
            <a:avLst/>
          </a:prstGeom>
          <a:ln w="0">
            <a:noFill/>
          </a:ln>
        </p:spPr>
      </p:pic>
    </p:spTree>
  </p:cSld>
  <p:transition spd="med" advTm="15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1797120" y="582120"/>
            <a:ext cx="687528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ульттерапия - это разновидность арт-терапии (от англ. </a:t>
            </a:r>
            <a:r>
              <a:rPr b="0" i="1" lang="ru-RU" sz="2800" spc="-1" strike="noStrike">
                <a:solidFill>
                  <a:srgbClr val="000000"/>
                </a:solidFill>
                <a:latin typeface="Calibri"/>
              </a:rPr>
              <a:t>art</a:t>
            </a:r>
            <a:r>
              <a:rPr b="0" lang="ru-RU" sz="2800" spc="-1" strike="noStrike">
                <a:solidFill>
                  <a:srgbClr val="000000"/>
                </a:solidFill>
                <a:latin typeface="Calibri"/>
              </a:rPr>
              <a:t>, искусство, от др.-греч. — «лечение», «оздоровление», «лекарство»). То есть лечение искусством. Помимо всего прочего, арт-терапия – прекрасный способ безболезненно для других выразить свои эмоции и чувства. Арт-терапия основывается на способности человека к образному восприятию окружения и упорядочению своих связей с ним в символической форме.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advTm="1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1914120" y="282240"/>
            <a:ext cx="6929640" cy="42512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ульттерапия бывает двух видов:</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1. Создание мультфильма;</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2. Просмотр, анализ мультфильма и закрепление полученного опыта через практику (упражнение, игру, задание).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advTm="15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1900080" y="196560"/>
            <a:ext cx="69724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Понятия о добре и зл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Мультфильмы в помощь:</a:t>
            </a:r>
            <a:r>
              <a:rPr b="0" lang="ru-RU" sz="2800" spc="-1" strike="noStrike">
                <a:solidFill>
                  <a:srgbClr val="000000"/>
                </a:solidFill>
                <a:latin typeface="Calibri"/>
              </a:rPr>
              <a:t> «Ну, погоди», «Леопольд», «Лунтик», «Волшебник изумрудного города», "Фунтик", "Крокодил Гена"</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6" name="Рисунок 2" descr="Мульттерапия Развитие эмоциональной и нравственной сферы ребенка"/>
          <p:cNvPicPr/>
          <p:nvPr/>
        </p:nvPicPr>
        <p:blipFill>
          <a:blip r:embed="rId1"/>
          <a:stretch/>
        </p:blipFill>
        <p:spPr>
          <a:xfrm>
            <a:off x="3138480" y="2643120"/>
            <a:ext cx="4211640" cy="2538360"/>
          </a:xfrm>
          <a:prstGeom prst="rect">
            <a:avLst/>
          </a:prstGeom>
          <a:ln w="0">
            <a:noFill/>
          </a:ln>
        </p:spPr>
      </p:pic>
    </p:spTree>
  </p:cSld>
  <p:transition spd="med" advTm="15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2057400" y="411120"/>
            <a:ext cx="6786720" cy="46087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 </a:t>
            </a:r>
            <a:r>
              <a:rPr b="1" lang="ru-RU" sz="2800" spc="-1" strike="noStrike">
                <a:solidFill>
                  <a:srgbClr val="000000"/>
                </a:solidFill>
                <a:latin typeface="Calibri"/>
              </a:rPr>
              <a:t>Умение распознавать чувства и эмоци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аровозик из Ромашково", "Ежик в тумане", "Ежик и Медвежонок", "Ох и Ах", "Просто так", "Дорожная сказка", "Чучело-мяучело", мультфильмы про лисенка «Мотылек», «Сказка о старом эхо»</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8" name="Рисунок 2" descr="https://www.b17.ru/foto/uploaded/473bdef80ce2dc11fcb3f2be02075f47.jpg"/>
          <p:cNvPicPr/>
          <p:nvPr/>
        </p:nvPicPr>
        <p:blipFill>
          <a:blip r:embed="rId1"/>
          <a:stretch/>
        </p:blipFill>
        <p:spPr>
          <a:xfrm>
            <a:off x="3798720" y="3392640"/>
            <a:ext cx="3803760" cy="2468520"/>
          </a:xfrm>
          <a:prstGeom prst="rect">
            <a:avLst/>
          </a:prstGeom>
          <a:ln w="0">
            <a:noFill/>
          </a:ln>
        </p:spPr>
      </p:pic>
    </p:spTree>
  </p:cSld>
  <p:transition spd="med" advTm="15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1986120" y="310680"/>
            <a:ext cx="6729120" cy="629460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ро плохое и хорошее поведение, полезные привычки:</a:t>
            </a:r>
            <a:r>
              <a:rPr b="0" lang="ru-RU" sz="2800" spc="-1" strike="noStrike">
                <a:solidFill>
                  <a:srgbClr val="000000"/>
                </a:solidFill>
                <a:latin typeface="Calibri"/>
              </a:rPr>
              <a:t> "Антошка","Нехочуха", "Осторожно, обезьянки", "Морозко", "Двенадцать месяцев", "Коза-Дереза", "Бобик в гостях у Барбоса", "Замок лгунов", "песенка Мышонка", "Три котенка", "Уроки тетушки Совы", "В стране невыученных уроков", "Как стать большим", "Остров ошибок", "Дядя Степа", "Мойдодыр", "Маша и волшебное варенье"</a:t>
            </a:r>
            <a:endParaRPr b="0" lang="en-US" sz="28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0" name="Рисунок 2" descr="https://www.b17.ru/foto/uploaded/36ea1eea2d4218095e499328dbaf96c6.jpg"/>
          <p:cNvPicPr/>
          <p:nvPr/>
        </p:nvPicPr>
        <p:blipFill>
          <a:blip r:embed="rId1"/>
          <a:stretch/>
        </p:blipFill>
        <p:spPr>
          <a:xfrm>
            <a:off x="4729320" y="4689360"/>
            <a:ext cx="3335040" cy="2076480"/>
          </a:xfrm>
          <a:prstGeom prst="rect">
            <a:avLst/>
          </a:prstGeom>
          <a:ln w="0">
            <a:noFill/>
          </a:ln>
        </p:spPr>
      </p:pic>
    </p:spTree>
  </p:cSld>
  <p:transition spd="med" advTm="15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971360" y="296640"/>
            <a:ext cx="6786360" cy="63658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 мультиков о школе</a:t>
            </a: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риключения запятой и точки</a:t>
            </a:r>
            <a:endParaRPr b="0" lang="en-US" sz="1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учительный мультфильм о том, что лентяй и плут всегда будет наказан за свои проступки.</a:t>
            </a:r>
            <a:endParaRPr b="0" lang="en-US" sz="1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альчик Боря получил по русскому языку двойку. Он хочет обмануть учительницу и подделывает её исправления синими чернилами. Мальчик мечтает, как обвинит учительницу в невнимательности. Но не тут-то было.</a:t>
            </a: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овка в Тридевятом царстве</a:t>
            </a:r>
            <a:endParaRPr b="0" lang="en-US" sz="1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аждый ребёнок мечтает только и делать, что ничего не делать. Но потом, оказывается, что это не так уж весело. История о Вовке, который путешествует по Тридевятому царству, и являет собой пример беспросветного тунеядца, поучительна.</a:t>
            </a: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 стране Невыученных уроков</a:t>
            </a:r>
            <a:endParaRPr b="0" lang="en-US" sz="1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казка о нерадивом ученике, который попадает в волшебный мир, сложенный из его ошибок.</a:t>
            </a: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Остров ошибок</a:t>
            </a:r>
            <a:endParaRPr b="0" lang="en-US" sz="1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ажно задумываться о последствиях наших дел, даже когда они кажутся незначительными.</a:t>
            </a: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На задней парте</a:t>
            </a:r>
            <a:endParaRPr b="0" lang="en-US" sz="1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нания нужны не только для того, чтобы умничать на уроках, но и в реальной жизни.</a:t>
            </a:r>
            <a:endParaRPr b="0" lang="en-US" sz="1600" spc="-1" strike="noStrike">
              <a:solidFill>
                <a:srgbClr val="000000"/>
              </a:solidFill>
              <a:latin typeface="Calibri"/>
            </a:endParaRPr>
          </a:p>
          <a:p>
            <a:pPr marL="22860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med" advTm="15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1956960" y="253800"/>
            <a:ext cx="6815160" cy="462276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Занятие для обучающихс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росмотр и обсуждение мультфильма про мышонк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a:t>
            </a:r>
            <a:r>
              <a:rPr b="0" lang="ru-RU" sz="2800" spc="-1" strike="noStrike">
                <a:solidFill>
                  <a:srgbClr val="000000"/>
                </a:solidFill>
                <a:latin typeface="Calibri"/>
              </a:rPr>
              <a:t>Какие мысли возникают при его просмотре, бывали ли вы в такой ситуации? Что чувствует мышонок? (переживает стресс) 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Актуальна ли для Вас эта тем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А какие же ассоциации возникают у вас, когда вы слышите слово “экзамен”</a:t>
            </a:r>
            <a:endParaRPr b="0" lang="en-US" sz="2800" spc="-1" strike="noStrike">
              <a:solidFill>
                <a:srgbClr val="000000"/>
              </a:solidFill>
              <a:latin typeface="Calibri"/>
            </a:endParaRPr>
          </a:p>
        </p:txBody>
      </p:sp>
    </p:spTree>
  </p:cSld>
  <p:transition spd="med" advTm="15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116080" y="164880"/>
            <a:ext cx="6556320" cy="57387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елаксационные дыхательные упражнения на снятие эмоционального и мышечного напряжения и выработку навыков саморегуляции.</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пражнение «</a:t>
            </a:r>
            <a:r>
              <a:rPr b="1" i="1" lang="ru-RU" sz="2000" spc="-1" strike="noStrike">
                <a:solidFill>
                  <a:srgbClr val="000000"/>
                </a:solidFill>
                <a:latin typeface="Calibri"/>
              </a:rPr>
              <a:t>МУХА</a:t>
            </a:r>
            <a:r>
              <a:rPr b="1" lang="ru-RU" sz="2000" spc="-1" strike="noStrike">
                <a:solidFill>
                  <a:srgbClr val="000000"/>
                </a:solidFill>
                <a:latin typeface="Calibri"/>
              </a:rPr>
              <a:t>».</a:t>
            </a:r>
            <a:r>
              <a:rPr b="0" lang="ru-RU" sz="2000" spc="-1" strike="noStrike">
                <a:solidFill>
                  <a:srgbClr val="000000"/>
                </a:solidFill>
                <a:latin typeface="Calibri"/>
              </a:rPr>
              <a:t> Сядьте удобно: руки свободно положите на колени, плечи и голова опущены, глаза закрыты. Мысленно представьте, что на ваше лицо пытается сесть муха. Она садится то на нос, то на рот, то на лоб, то на глаза. Необходимо не открывая глаз, согнать назойливое насекомое.</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пражнение «</a:t>
            </a:r>
            <a:r>
              <a:rPr b="1" i="1" lang="ru-RU" sz="2000" spc="-1" strike="noStrike">
                <a:solidFill>
                  <a:srgbClr val="000000"/>
                </a:solidFill>
                <a:latin typeface="Calibri"/>
              </a:rPr>
              <a:t>ВВЕРХ ПО РАДУГЕ</a:t>
            </a:r>
            <a:r>
              <a:rPr b="1" lang="ru-RU" sz="2000" spc="-1" strike="noStrike">
                <a:solidFill>
                  <a:srgbClr val="000000"/>
                </a:solidFill>
                <a:latin typeface="Calibri"/>
              </a:rPr>
              <a:t>».</a:t>
            </a:r>
            <a:r>
              <a:rPr b="0" lang="ru-RU" sz="2000" spc="-1" strike="noStrike">
                <a:solidFill>
                  <a:srgbClr val="000000"/>
                </a:solidFill>
                <a:latin typeface="Calibri"/>
              </a:rPr>
              <a:t> Встаньте, закройте глаза, сделайте глубокий вдох и представьте себе, что с этим вдохом вы взбираетесь вверх по радуге, и, выдыхая, съезжаете с нее как с горки. Вдох должен быть максимально полным и плавным, так же как и выдох. Между выдохом и следующим вдохом должна быть небольшая пауза. Повторите 3 раза.</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пражнение  </a:t>
            </a:r>
            <a:r>
              <a:rPr b="0" lang="ru-RU" sz="2000" spc="-1" strike="noStrike">
                <a:solidFill>
                  <a:srgbClr val="000000"/>
                </a:solidFill>
                <a:latin typeface="Calibri"/>
              </a:rPr>
              <a:t>Дыхание на счет: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вдох-2выдох, 2вдох-4выдох, 4вдох-2 выдох.</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advTm="15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12:08:41Z</dcterms:created>
  <dc:creator>Dmytro</dc:creator>
  <dc:description/>
  <dc:language>en-US</dc:language>
  <cp:lastModifiedBy>Ильдар Зямилев</cp:lastModifiedBy>
  <dcterms:modified xsi:type="dcterms:W3CDTF">2022-04-03T13:45:20Z</dcterms:modified>
  <cp:revision>11</cp:revision>
  <dc:subject/>
  <dc:title>Название презентации</dc:title>
</cp:coreProperties>
</file>